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tdallas.ed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solidFill>
            <a:srgbClr val="009999"/>
          </a:solidFill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ke Graves Summ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"/>
            <a:ext cx="9144000" cy="228600"/>
          </a:xfrm>
          <a:prstGeom prst="rect">
            <a:avLst/>
          </a:prstGeom>
          <a:solidFill>
            <a:srgbClr val="009999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University of Texas at D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2400" y="76320"/>
            <a:ext cx="109692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-2.cs.cmu.edu/~reids/papers/tca-ambler.pdf" TargetMode="External"/><Relationship Id="rId2" Type="http://schemas.openxmlformats.org/officeDocument/2006/relationships/hyperlink" Target="http://www.wv.inf.tu-dresden.de/Teaching/MobileRoboticsLab/Download/TCA-Manual.pdf" TargetMode="External"/><Relationship Id="rId3" Type="http://schemas.openxmlformats.org/officeDocument/2006/relationships/hyperlink" Target="http://www.wv.inf.tu-dresden.de/Teaching/MobileRoboticsLab/Download/TCA-Manual.pdf" TargetMode="External"/><Relationship Id="rId4" Type="http://schemas.openxmlformats.org/officeDocument/2006/relationships/hyperlink" Target="http://www-2.cs.cmu.edu/afs/cs/project/TCA/www/TCA-history.html" TargetMode="External"/><Relationship Id="rId5" Type="http://schemas.openxmlformats.org/officeDocument/2006/relationships/hyperlink" Target="http://ranier.hq.nasa.gov/Telerobotics_page/Technologies/0710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tdallas.edu/~chung/SA/2.4md4.pd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mplicit Invocation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Task Control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ke Gr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S6362 Term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. Lawrence C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CA Exception Handl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343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09880" cy="4343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62485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This figure is from TCA Programmers Guide version 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ler Walking Rob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6002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TCA for robot control through efficient interaction of various on-boar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for planetary exploration (i.e., deep crevices, large boulders, steep slopes, etc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zes scanning laser rangefinder for accurate perception of ter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ote human operators tell Ambler where to go, not how to get t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nomously builds terrain maps, plans sequence and location of steps, and controls movement, balance, and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Gait Planner module plans a limited number of steps based on terrain and walking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otfall Planner module determines which steps have best foothold based on previous learning through a neural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eg Recovery Planner module finally determines how to move each leg without colliding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ler Component Intera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48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This figure is from IEEE Control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ler Task Tre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15000" cy="3740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76520" y="5257800"/>
            <a:ext cx="5790960" cy="1019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248520" y="624852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This figure is from IEEE Control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6002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A provides many commonly needed control constructs for a complex system that uses the implicit invocation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Coordination and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ption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A facilitates increment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ng new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ng new reactive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ng new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A software system is no longer maintained at C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mers not familiar with TCA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Definition Language (TDL) is new research area for Simmons.  It is a superset of C++ that includes explicit syntax for task-level control capabiliti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ftware Architecture; Perspectives on An Emerging Discipline, M. Shaw, D. Garlan, Prentice Hall, 199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urrent Planning and Execution for Autonomous Robots, R. Simmons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EEE Control System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12:1, pp. 46-50, February 1992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-2.cs.cmu.edu/~reids/papers/tca-ambler.pd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sk Control Architecture Programmer's Guide to Version 8.0, R. Simmons, R. Goodwin, C. Fedor, J. Basista, Robotics Institute, Carnegie Mellon University, May 1997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v.inf.tu-dresden.de/Teaching/MobileRoboticsLab/Download/TCA-Manual.pdf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-2.cs.cmu.edu/afs/cs/project/TCA/www/TCA-history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ranier.hq.nasa.gov/Telerobotics_page/Technologies/0710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licit Invo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4876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 Supports Extensibility: additional modules can be easily attach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 Supports Reusability: implicitly invoked modules rely only on triggered even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Complexity: difficult to control the processing order of implicitly invoked modules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How would this be don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is illustration is from Dr L. Chung’s CS6362 Lecture Notes at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tdallas.edu/~chung/SA/2.4md4.pd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295280"/>
            <a:ext cx="7162920" cy="3429000"/>
            <a:chOff x="838080" y="1295280"/>
            <a:chExt cx="7162920" cy="3429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38080" y="1295280"/>
              <a:ext cx="71629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838080" y="1295280"/>
              <a:ext cx="71629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sk Control Architecture (TCA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ed by Reid Simmons at Robotics Institute of CMU (1988-19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ed by NASA to support the Ambler six-legged wal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d in over a dozen autonomou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s a general framework for controlling distributed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sts of distributed modules that communicate via message passing through a central server (a.k.a. central control module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s Implicit Invocation of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do not communic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ral server multicasts messages to modules that register fo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may also use execution monitors that register condition-action pairs with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A acts like OS: Supports distributed communication, task decomposition, task sequencing and synchronization, and resource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CA – Component Interaction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733920"/>
            <a:ext cx="6324480" cy="12952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Control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1371600" cy="6858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676520"/>
            <a:ext cx="1371600" cy="6858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1676520"/>
            <a:ext cx="1371600" cy="6858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2438280"/>
            <a:ext cx="381240" cy="1219320"/>
          </a:xfrm>
          <a:prstGeom prst="upDownArrow">
            <a:avLst>
              <a:gd name="adj1" fmla="val 50000"/>
              <a:gd name="adj2" fmla="val 636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438280"/>
            <a:ext cx="380880" cy="1219320"/>
          </a:xfrm>
          <a:prstGeom prst="upDownArrow">
            <a:avLst>
              <a:gd name="adj1" fmla="val 50000"/>
              <a:gd name="adj2" fmla="val 637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438280"/>
            <a:ext cx="380880" cy="1219320"/>
          </a:xfrm>
          <a:prstGeom prst="upDownArrow">
            <a:avLst>
              <a:gd name="adj1" fmla="val 50000"/>
              <a:gd name="adj2" fmla="val 637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3751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0440" y="5181480"/>
            <a:ext cx="637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-specific modules communicate through API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accesses a general-purpose reusable centr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e.  Control is centralized but data and probl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ing is distribut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A – Deliberative vs. Reactive Behavi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A allows the programmer to easily specify and integrate deliberative and reactive behavior using the TCA AP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iberative Behavior (i.e., open lo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construct hierarchical plans of action using goal and command messages.  The Central Control Module maintains plans in task trees dynamically and coordinates the task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send constrain messages and control parameters with other messages to control the order of task execution.  These temporal constraints can be relaxed to allow selective concurren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ctive Behavior (i.e., closed lo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send monitor messages that contain a condition-action pair.   Central control tests for a condition and takes action if the condition holds.  The action alters deliberative plans through the task tr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send exception messag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Central Control invokes an exception handler that may alter plans through the task tre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ules may set up a wiretap message to receive a copy of messages sent to another modul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mproves module exten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sk Tree for Procedure Cal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7652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sk-1( ); task-2( ); task-3( )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sk1( 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task-a( ); subtask-b( )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sk2( 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task-c( ); subtask-d( ); subtask-e( )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task-e( 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-subtask-x( ); sub-subtask-y( )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sk3()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task-f( ); subtask-g( )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4038840" cy="2163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05520" y="62485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This figure is from TCA Programmers Guide version 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 Tree for Asynchronous Invo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9320" y="1676520"/>
            <a:ext cx="2590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trigger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trigger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trigger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ndler1( ) 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trigger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trigger 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etc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4724640" cy="2395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05520" y="62485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This figure is from TCA Programmers Guide version 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A Task Trees allow Selective Concurrenc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38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05520" y="62485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This figure is from TCA Programmers Guide version 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CA Exception Handl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784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es error recovery algorithms from “normal”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it is impossible to predict all failure modes, exception handling often needs to be added after the primary algorithms have been develop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A exception handling allows error recovery algorithms to be added without modifying/complicating the original algorithms (i.e., provides program extensibility through incremental, modular adjustmen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module registers Exception Handlers and Exception Messages with the Central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module attaches Exception Handlers to task nodes in the Central Module’s task 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es raise an exception by notifying the Central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entral Module implicitly invokes the associated Exception Handler’s recovery procedure.  This procedure may modify the planned behavior by modifying the task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7:38:25Z</dcterms:created>
  <dc:creator>mike</dc:creator>
  <dc:description/>
  <dc:language>en-US</dc:language>
  <cp:lastModifiedBy>mike</cp:lastModifiedBy>
  <dcterms:modified xsi:type="dcterms:W3CDTF">2005-07-10T21:58:47Z</dcterms:modified>
  <cp:revision>109</cp:revision>
  <dc:subject/>
  <dc:title>StarCore SC1000 Family Processors</dc:title>
</cp:coreProperties>
</file>